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696-3D1E-4CFA-859E-B766C865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C157-0631-47C8-8BAC-5321507E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6A15-A8BF-44BC-8E20-4CBF4C03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6A79-68C6-4C97-84BF-142C3A84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1C3-EEDC-486B-AC40-6BD2C02B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0177-6192-4EAA-92D8-E9768099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B151-561A-4465-9A6F-C7A1B43D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F92C-F032-48EE-8CBC-63FEEEFC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E8B-37EE-480D-9A16-B3C6AB4D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E7A0-7F33-4885-94F5-22668EBE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D1F-2585-4334-869B-3CBAF73A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42A-E076-4775-9563-4FDAEBCF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F415-7153-4112-9DF5-13FBE9AFD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s, oils, waxes, sterols, 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 Food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er, mayo, animal fats, seeds, oils, nut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8483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 of amino acid ch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, H, O, N &amp; 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Impor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&amp; repai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 up 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, skin, spider we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, keratin, enzymes, globul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Food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t, fish, eggs, nuts,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4674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369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: carbon, hydrogen, oxygen, nitrogen, phosphorus (C, H, O, N, 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 of repeating units of sugar, phospate &amp; nitrogen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 Impor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cellular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genet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the making of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&amp;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(nucleic acids are present in almost all fo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8001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09c4"/>
                </a:solidFill>
                <a:latin typeface="Arial"/>
              </a:rPr>
              <a:t>What are organic compoun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compounds that contain carb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09c4"/>
                </a:solidFill>
                <a:latin typeface="Arial"/>
              </a:rPr>
              <a:t>What group(s) of substances are considered energy sourc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hydrates and lip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09c4"/>
                </a:solidFill>
                <a:latin typeface="Arial"/>
              </a:rPr>
              <a:t>How are lipids &amp; carbohydrates similar?  How are they differ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both energy sources but carbohydrates provide quick energy and lipids are a long term energy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09c4"/>
                </a:solidFill>
                <a:latin typeface="Arial"/>
              </a:rPr>
              <a:t>Name 2 types of nucleic acids.  What is their importance in the ce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&amp;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used to make protein, store genetic information, and control cell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 -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hydrate -  C, H,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id - C, H,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o acid - C, H, O,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 - C, H, O, N,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 - #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 - #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 - #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ydrocarbon has a central chain of carbon atoms with hydrogen atoms attached to the carb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 - #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o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 - #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chain or ring bonded to O or H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ontain 2 atoms of Hydrogen for e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  #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ontain C, H, &amp; 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 - #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 - #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e group, carboxylic acid, &amp; R side ch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 - #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 - #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k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ids - the long hydrocarbon has many more b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2 - #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 and fruct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2 - #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rose and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2 - #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2 - #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2 - #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and a dipep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Impor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quick source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so used as structural building blocks ex: cellulose in plant cell w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2 - #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 produc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2 - #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2 - #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reactions cause water to be removed, therefore, the molecule is dehydrated or water is “condensed” from the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2 - #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2 - #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2 - # 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lysi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s (glucose, sucrose, fructo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ches (cellulose, glyc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Food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ds, pasta, potatoes, rice, cereal, frui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620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92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 Characteristi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 of carbon, hydrogen and oxygen atoms (contain more hydrogen atoms than carbohydrates 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oluble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ed fat (animal) - singl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aturated fat (plant oils) - doubl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 Impor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term energ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in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make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form part of cell membr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15:17:50Z</dcterms:created>
  <dc:creator>NHS NPS</dc:creator>
  <dc:description/>
  <dc:language>en-US</dc:language>
  <cp:lastModifiedBy>NHS NPS</cp:lastModifiedBy>
  <dcterms:modified xsi:type="dcterms:W3CDTF">2013-11-22T17:13:14Z</dcterms:modified>
  <cp:revision>10</cp:revision>
  <dc:subject/>
  <dc:title>Organic Compounds</dc:title>
</cp:coreProperties>
</file>